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055-481E-4CC5-95C7-D6DF86B9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967-3341-4778-AF3D-3A3EAA8C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F72-495A-4D2C-9CEC-E4E1B643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D26-DE3F-40B7-82B0-FAABA91D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21E-E282-48D1-943D-C05C825D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023-0913-4123-B177-B07DB9F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123-C2F5-4D40-A2AD-ADD33E44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DEA7-8C05-43CE-9A86-BCB4EBE9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D23-F819-43BC-B0D0-2C60AC48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7F2-286F-4C19-A4D0-09CBEBAE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BC7-3CA7-401A-954D-61C260E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8D6-E245-485A-BBB3-863D583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A828-A973-4E63-B728-CC58C56E8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429000"/>
            <a:ext cx="4572000" cy="3352680"/>
            <a:chOff x="0" y="3429000"/>
            <a:chExt cx="4572000" cy="3352680"/>
          </a:xfrm>
        </p:grpSpPr>
        <p:sp>
          <p:nvSpPr>
            <p:cNvPr id="42" name=""/>
            <p:cNvSpPr/>
            <p:nvPr/>
          </p:nvSpPr>
          <p:spPr>
            <a:xfrm>
              <a:off x="0" y="3429000"/>
              <a:ext cx="4572000" cy="335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8400" y="3754440"/>
              <a:ext cx="3598920" cy="2314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62040" y="606888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2040" y="573552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2040" y="541188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62040" y="50785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2040" y="474516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040" y="441180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2040" y="408780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2040" y="375444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9840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00188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30320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59696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89864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20032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50344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79576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09888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40056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703680" y="6030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99564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297320" y="603072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51040" y="4106520"/>
              <a:ext cx="3013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2360" y="4106880"/>
              <a:ext cx="2923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4680" y="4192560"/>
              <a:ext cx="30312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47800" y="4459320"/>
              <a:ext cx="301680" cy="67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4849560"/>
              <a:ext cx="30312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352600" y="4001760"/>
              <a:ext cx="29232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644920" y="3954600"/>
              <a:ext cx="3031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48040" y="3954600"/>
              <a:ext cx="301680" cy="10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249720" y="4583160"/>
              <a:ext cx="3016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51400" y="4583160"/>
              <a:ext cx="2934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44800" y="4735440"/>
              <a:ext cx="3016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2880" y="4373640"/>
              <a:ext cx="745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14560" y="406872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7960" y="4154400"/>
              <a:ext cx="7488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09640" y="44211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11320" y="509760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14440" y="4811760"/>
              <a:ext cx="7488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06760" y="396396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09880" y="3916440"/>
              <a:ext cx="745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11560" y="49258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4680" y="4545000"/>
              <a:ext cx="745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07000" y="4697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8320" y="47545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6840" y="5992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6840" y="5659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6840" y="533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840" y="5002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6840" y="4668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6840" y="4335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840" y="4011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6840" y="3678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11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235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1660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1900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2068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2272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57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181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20560" y="61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84800" y="6173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77120" y="6173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0240" y="6173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72240" y="639288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d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79200" y="483480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"/>
          <p:cNvGrpSpPr/>
          <p:nvPr/>
        </p:nvGrpSpPr>
        <p:grpSpPr>
          <a:xfrm>
            <a:off x="58680" y="58680"/>
            <a:ext cx="4442040" cy="3264120"/>
            <a:chOff x="58680" y="58680"/>
            <a:chExt cx="4442040" cy="3264120"/>
          </a:xfrm>
        </p:grpSpPr>
        <p:sp>
          <p:nvSpPr>
            <p:cNvPr id="1116" name=""/>
            <p:cNvSpPr/>
            <p:nvPr/>
          </p:nvSpPr>
          <p:spPr>
            <a:xfrm>
              <a:off x="58680" y="58680"/>
              <a:ext cx="444204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3040" y="295200"/>
              <a:ext cx="3546360" cy="2521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06320" y="28162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06320" y="25336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6320" y="22510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6320" y="19796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6320" y="16970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06320" y="14144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06320" y="11304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06320" y="86040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06320" y="5778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06320" y="2952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3040" y="1697040"/>
              <a:ext cx="354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743040" y="16966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977760" y="1025280"/>
              <a:ext cx="23652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214280" y="1025640"/>
              <a:ext cx="235080" cy="83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1449360" y="1472760"/>
              <a:ext cx="235080" cy="3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684440" y="1473120"/>
              <a:ext cx="236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20960" y="1473120"/>
              <a:ext cx="23472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55680" y="1849320"/>
              <a:ext cx="23652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392200" y="1803240"/>
              <a:ext cx="24768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2639880" y="1531800"/>
              <a:ext cx="23508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2874960" y="1083960"/>
              <a:ext cx="23652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111480" y="1084320"/>
              <a:ext cx="23508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346560" y="1273320"/>
              <a:ext cx="23472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977760" y="743040"/>
              <a:ext cx="23652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1214280" y="1531800"/>
              <a:ext cx="23508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449360" y="1531800"/>
              <a:ext cx="235080" cy="6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1684440" y="1638360"/>
              <a:ext cx="23652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1920960" y="1307880"/>
              <a:ext cx="23472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155680" y="519120"/>
              <a:ext cx="236520" cy="78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392200" y="519120"/>
              <a:ext cx="247680" cy="10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639880" y="1531800"/>
              <a:ext cx="235080" cy="9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2874960" y="2144520"/>
              <a:ext cx="23652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3111480" y="1731600"/>
              <a:ext cx="235080" cy="41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346560" y="1130040"/>
              <a:ext cx="234720" cy="60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77760" y="930240"/>
              <a:ext cx="236520" cy="3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14280" y="1308240"/>
              <a:ext cx="2350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449360" y="1697040"/>
              <a:ext cx="23508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1684440" y="1555920"/>
              <a:ext cx="23652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920960" y="1555920"/>
              <a:ext cx="23472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155680" y="1390680"/>
              <a:ext cx="23652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392200" y="1390680"/>
              <a:ext cx="24768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39880" y="1673280"/>
              <a:ext cx="23508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2874960" y="1614600"/>
              <a:ext cx="23652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3111480" y="1508040"/>
              <a:ext cx="2350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346560" y="1436760"/>
              <a:ext cx="2347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42840" y="1095480"/>
              <a:ext cx="71640" cy="712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2"/>
                  </a:lnTo>
                  <a:lnTo>
                    <a:pt x="22" y="4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177920" y="98892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3" y="0"/>
                  </a:moveTo>
                  <a:lnTo>
                    <a:pt x="45" y="23"/>
                  </a:lnTo>
                  <a:lnTo>
                    <a:pt x="23" y="45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14440" y="1825560"/>
              <a:ext cx="71640" cy="71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49520" y="14367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2" y="0"/>
                  </a:moveTo>
                  <a:lnTo>
                    <a:pt x="45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86040" y="1436760"/>
              <a:ext cx="71280" cy="712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20760" y="181440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22" y="0"/>
                  </a:moveTo>
                  <a:lnTo>
                    <a:pt x="45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357280" y="2214720"/>
              <a:ext cx="71640" cy="712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03520" y="17668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23" y="0"/>
                  </a:moveTo>
                  <a:lnTo>
                    <a:pt x="45" y="23"/>
                  </a:lnTo>
                  <a:lnTo>
                    <a:pt x="23" y="45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840040" y="1496880"/>
              <a:ext cx="69840" cy="716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075120" y="10494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23" y="0"/>
                  </a:moveTo>
                  <a:lnTo>
                    <a:pt x="45" y="22"/>
                  </a:lnTo>
                  <a:lnTo>
                    <a:pt x="23" y="4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311640" y="1236600"/>
              <a:ext cx="71280" cy="71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3"/>
                  </a:lnTo>
                  <a:lnTo>
                    <a:pt x="22" y="4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546360" y="172080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22" y="0"/>
                  </a:moveTo>
                  <a:lnTo>
                    <a:pt x="45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42840" y="706320"/>
              <a:ext cx="698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177920" y="154296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414440" y="1496880"/>
              <a:ext cx="6984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649520" y="2168640"/>
              <a:ext cx="7128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86040" y="1601640"/>
              <a:ext cx="698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20760" y="1273320"/>
              <a:ext cx="7164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357280" y="482760"/>
              <a:ext cx="698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03520" y="1496880"/>
              <a:ext cx="7128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40040" y="2438280"/>
              <a:ext cx="698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075120" y="210816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11640" y="1697040"/>
              <a:ext cx="6984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46360" y="109548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58280" y="2733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8280" y="24512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8280" y="21686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9920" y="18972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77440" y="161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77440" y="133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6160" y="1049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6160" y="777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06160" y="495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06160" y="21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10120" y="2968560"/>
              <a:ext cx="38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n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6200000">
              <a:off x="92160" y="149364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8680" y="58680"/>
              <a:ext cx="4442040" cy="3264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1360" y="28177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1925640" y="2822400"/>
              <a:ext cx="144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3116160" y="2822400"/>
              <a:ext cx="1800" cy="3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1000" y="287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890360" y="287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044520" y="287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22440" y="287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73360" y="89208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og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59320" y="1778040"/>
              <a:ext cx="77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odaf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616200" y="137304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rtfol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739800" y="28191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 flipV="1">
              <a:off x="4287960" y="28173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2" name=""/>
          <p:cNvGrpSpPr/>
          <p:nvPr/>
        </p:nvGrpSpPr>
        <p:grpSpPr>
          <a:xfrm>
            <a:off x="4632480" y="3489480"/>
            <a:ext cx="4438440" cy="3341520"/>
            <a:chOff x="4632480" y="3489480"/>
            <a:chExt cx="4438440" cy="3341520"/>
          </a:xfrm>
        </p:grpSpPr>
        <p:sp>
          <p:nvSpPr>
            <p:cNvPr id="1213" name=""/>
            <p:cNvSpPr/>
            <p:nvPr/>
          </p:nvSpPr>
          <p:spPr>
            <a:xfrm>
              <a:off x="4632480" y="3489480"/>
              <a:ext cx="4438440" cy="334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64080" y="3730680"/>
              <a:ext cx="3378240" cy="2376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29160" y="61070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429160" y="57085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429160" y="531036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29160" y="4924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429160" y="45277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29160" y="41292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29160" y="37306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464080" y="610704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6140520" y="61070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6815160" y="61070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491240" y="610704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8166240" y="610704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8842320" y="610704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64080" y="4079880"/>
              <a:ext cx="3384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802480" y="4152960"/>
              <a:ext cx="33804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40520" y="4213080"/>
              <a:ext cx="3380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478560" y="4286160"/>
              <a:ext cx="3366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15160" y="4357800"/>
              <a:ext cx="3380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153200" y="4430880"/>
              <a:ext cx="33804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91240" y="4491000"/>
              <a:ext cx="3384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9640" y="4562640"/>
              <a:ext cx="33660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166240" y="4635360"/>
              <a:ext cx="3380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504280" y="4708440"/>
              <a:ext cx="3380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464080" y="4079880"/>
              <a:ext cx="3384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02480" y="4417920"/>
              <a:ext cx="3380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40520" y="4743360"/>
              <a:ext cx="338040" cy="33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478560" y="5081760"/>
              <a:ext cx="3366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15160" y="5419800"/>
              <a:ext cx="33804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53200" y="5757840"/>
              <a:ext cx="3380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7491240" y="5781240"/>
              <a:ext cx="33840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7829640" y="5443200"/>
              <a:ext cx="33660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8166240" y="5118120"/>
              <a:ext cx="33804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8504280" y="4779720"/>
              <a:ext cx="33804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64080" y="4079880"/>
              <a:ext cx="33840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802480" y="4273560"/>
              <a:ext cx="3380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140520" y="4467240"/>
              <a:ext cx="3380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78560" y="4635360"/>
              <a:ext cx="3366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15160" y="4780080"/>
              <a:ext cx="3380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53200" y="4889520"/>
              <a:ext cx="3380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491240" y="4973760"/>
              <a:ext cx="3384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7829640" y="4973760"/>
              <a:ext cx="3366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8166240" y="4889520"/>
              <a:ext cx="3380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8504280" y="4780080"/>
              <a:ext cx="3380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64080" y="4079880"/>
              <a:ext cx="33840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802480" y="4334040"/>
              <a:ext cx="33804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140520" y="4575240"/>
              <a:ext cx="3380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78560" y="4803840"/>
              <a:ext cx="33660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815160" y="4997520"/>
              <a:ext cx="338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53200" y="5154480"/>
              <a:ext cx="3380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7491240" y="5225760"/>
              <a:ext cx="3384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7829640" y="5141880"/>
              <a:ext cx="3366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8166240" y="4973400"/>
              <a:ext cx="3380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8504280" y="4780080"/>
              <a:ext cx="3380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440320" y="4056120"/>
              <a:ext cx="49320" cy="49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78360" y="4309920"/>
              <a:ext cx="47880" cy="4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16760" y="4551480"/>
              <a:ext cx="475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453360" y="4780080"/>
              <a:ext cx="48960" cy="48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791400" y="4973760"/>
              <a:ext cx="4896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129440" y="5130720"/>
              <a:ext cx="47520" cy="4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67480" y="5214960"/>
              <a:ext cx="4788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05880" y="5202360"/>
              <a:ext cx="475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142120" y="5118120"/>
              <a:ext cx="493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480520" y="4950000"/>
              <a:ext cx="475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818560" y="4756320"/>
              <a:ext cx="47520" cy="4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95600" y="6022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295600" y="5624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295600" y="522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295600" y="4840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295600" y="444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22520" y="4044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22520" y="3646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428800" y="62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055560" y="621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30200" y="621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06640" y="621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081280" y="621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805600" y="62150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97480" y="6469200"/>
              <a:ext cx="1572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portion of Google h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16200000">
              <a:off x="3928680" y="4896720"/>
              <a:ext cx="189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 of portfolio of Google 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16200000">
              <a:off x="4770720" y="486108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Voda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10280" y="45720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ρ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010280" y="54100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ρ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010280" y="41148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ρ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"/>
          <p:cNvGrpSpPr/>
          <p:nvPr/>
        </p:nvGrpSpPr>
        <p:grpSpPr>
          <a:xfrm>
            <a:off x="4637160" y="3489480"/>
            <a:ext cx="4427640" cy="3324240"/>
            <a:chOff x="4637160" y="3489480"/>
            <a:chExt cx="4427640" cy="3324240"/>
          </a:xfrm>
        </p:grpSpPr>
        <p:sp>
          <p:nvSpPr>
            <p:cNvPr id="1299" name=""/>
            <p:cNvSpPr/>
            <p:nvPr/>
          </p:nvSpPr>
          <p:spPr>
            <a:xfrm>
              <a:off x="4637160" y="3489480"/>
              <a:ext cx="4427640" cy="33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268960" y="3736800"/>
              <a:ext cx="3558960" cy="2346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29360" y="60832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229360" y="5783400"/>
              <a:ext cx="39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229360" y="550080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29360" y="5200560"/>
              <a:ext cx="39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229360" y="49165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229360" y="46180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229360" y="431964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29360" y="40338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229360" y="373680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526896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5859360" y="608328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645012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705492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764712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8237520" y="6083280"/>
              <a:ext cx="144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8827920" y="6083280"/>
              <a:ext cx="180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386320" y="4087800"/>
              <a:ext cx="119160" cy="477720"/>
            </a:xfrm>
            <a:custGeom>
              <a:avLst/>
              <a:gdLst/>
              <a:ahLst/>
              <a:rect l="l" t="t" r="r" b="b"/>
              <a:pathLst>
                <a:path w="75" h="280">
                  <a:moveTo>
                    <a:pt x="0" y="0"/>
                  </a:moveTo>
                  <a:lnTo>
                    <a:pt x="17" y="75"/>
                  </a:lnTo>
                  <a:lnTo>
                    <a:pt x="33" y="151"/>
                  </a:lnTo>
                  <a:lnTo>
                    <a:pt x="58" y="220"/>
                  </a:lnTo>
                  <a:lnTo>
                    <a:pt x="75" y="2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505480" y="4565520"/>
              <a:ext cx="117360" cy="19548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0" y="0"/>
                  </a:moveTo>
                  <a:lnTo>
                    <a:pt x="16" y="38"/>
                  </a:lnTo>
                  <a:lnTo>
                    <a:pt x="33" y="69"/>
                  </a:lnTo>
                  <a:lnTo>
                    <a:pt x="58" y="91"/>
                  </a:lnTo>
                  <a:lnTo>
                    <a:pt x="74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622840" y="4761000"/>
              <a:ext cx="119160" cy="11592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0" y="0"/>
                  </a:moveTo>
                  <a:lnTo>
                    <a:pt x="33" y="38"/>
                  </a:lnTo>
                  <a:lnTo>
                    <a:pt x="75" y="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42000" y="4876920"/>
              <a:ext cx="117360" cy="6480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0" y="0"/>
                  </a:moveTo>
                  <a:lnTo>
                    <a:pt x="33" y="23"/>
                  </a:lnTo>
                  <a:lnTo>
                    <a:pt x="74" y="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859360" y="4941720"/>
              <a:ext cx="11916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978520" y="4994280"/>
              <a:ext cx="1173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095880" y="5032440"/>
              <a:ext cx="117720" cy="39600"/>
            </a:xfrm>
            <a:custGeom>
              <a:avLst/>
              <a:gdLst/>
              <a:ahLst/>
              <a:rect l="l" t="t" r="r" b="b"/>
              <a:pathLst>
                <a:path w="74" h="23">
                  <a:moveTo>
                    <a:pt x="0" y="0"/>
                  </a:moveTo>
                  <a:lnTo>
                    <a:pt x="33" y="16"/>
                  </a:lnTo>
                  <a:lnTo>
                    <a:pt x="74" y="2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213600" y="5072040"/>
              <a:ext cx="118800" cy="12600"/>
            </a:xfrm>
            <a:custGeom>
              <a:avLst/>
              <a:gdLst/>
              <a:ahLst/>
              <a:rect l="l" t="t" r="r" b="b"/>
              <a:pathLst>
                <a:path w="75" h="8">
                  <a:moveTo>
                    <a:pt x="0" y="0"/>
                  </a:moveTo>
                  <a:lnTo>
                    <a:pt x="34" y="8"/>
                  </a:lnTo>
                  <a:lnTo>
                    <a:pt x="75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32400" y="5084640"/>
              <a:ext cx="1177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50120" y="5110200"/>
              <a:ext cx="118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568920" y="5124600"/>
              <a:ext cx="1177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86640" y="5137200"/>
              <a:ext cx="118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05440" y="5149800"/>
              <a:ext cx="1177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23160" y="5162400"/>
              <a:ext cx="131760" cy="12960"/>
            </a:xfrm>
            <a:custGeom>
              <a:avLst/>
              <a:gdLst/>
              <a:ahLst/>
              <a:rect l="l" t="t" r="r" b="b"/>
              <a:pathLst>
                <a:path w="83" h="8">
                  <a:moveTo>
                    <a:pt x="0" y="0"/>
                  </a:moveTo>
                  <a:lnTo>
                    <a:pt x="42" y="8"/>
                  </a:lnTo>
                  <a:lnTo>
                    <a:pt x="83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054920" y="5175360"/>
              <a:ext cx="1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74080" y="5175360"/>
              <a:ext cx="117360" cy="126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0" y="0"/>
                  </a:moveTo>
                  <a:lnTo>
                    <a:pt x="33" y="0"/>
                  </a:lnTo>
                  <a:lnTo>
                    <a:pt x="74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91440" y="5187960"/>
              <a:ext cx="1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10600" y="5187960"/>
              <a:ext cx="117360" cy="12600"/>
            </a:xfrm>
            <a:custGeom>
              <a:avLst/>
              <a:gdLst/>
              <a:ahLst/>
              <a:rect l="l" t="t" r="r" b="b"/>
              <a:pathLst>
                <a:path w="74" h="8">
                  <a:moveTo>
                    <a:pt x="0" y="0"/>
                  </a:moveTo>
                  <a:lnTo>
                    <a:pt x="33" y="0"/>
                  </a:lnTo>
                  <a:lnTo>
                    <a:pt x="74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527960" y="5200560"/>
              <a:ext cx="1191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47120" y="5200560"/>
              <a:ext cx="117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764480" y="5200560"/>
              <a:ext cx="119160" cy="14400"/>
            </a:xfrm>
            <a:custGeom>
              <a:avLst/>
              <a:gdLst/>
              <a:ahLst/>
              <a:rect l="l" t="t" r="r" b="b"/>
              <a:pathLst>
                <a:path w="75" h="8">
                  <a:moveTo>
                    <a:pt x="0" y="0"/>
                  </a:moveTo>
                  <a:lnTo>
                    <a:pt x="33" y="0"/>
                  </a:lnTo>
                  <a:lnTo>
                    <a:pt x="75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883640" y="5214960"/>
              <a:ext cx="117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001000" y="5214960"/>
              <a:ext cx="117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118360" y="5214960"/>
              <a:ext cx="1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237520" y="5214960"/>
              <a:ext cx="117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84280" y="5992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84280" y="569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84280" y="54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84280" y="5110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084280" y="482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084280" y="452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084280" y="42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084280" y="394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084280" y="364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22900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1940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7200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97500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6720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15796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49800" y="619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89560" y="6472080"/>
              <a:ext cx="329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N - number of stocks of equal proportion in a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portfol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16200000">
              <a:off x="4477680" y="4844160"/>
              <a:ext cx="8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rtfolio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37160" y="3489480"/>
              <a:ext cx="4427640" cy="3324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257800" y="5257800"/>
              <a:ext cx="3581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772400" y="464832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erage covariance in mar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095880" y="525780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24480" y="5410080"/>
              <a:ext cx="137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Risk, Undiversifable 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5" name=""/>
          <p:cNvGrpSpPr/>
          <p:nvPr/>
        </p:nvGrpSpPr>
        <p:grpSpPr>
          <a:xfrm>
            <a:off x="0" y="3429000"/>
            <a:ext cx="4457880" cy="3429000"/>
            <a:chOff x="0" y="3429000"/>
            <a:chExt cx="4457880" cy="3429000"/>
          </a:xfrm>
        </p:grpSpPr>
        <p:sp>
          <p:nvSpPr>
            <p:cNvPr id="1366" name=""/>
            <p:cNvSpPr/>
            <p:nvPr/>
          </p:nvSpPr>
          <p:spPr>
            <a:xfrm>
              <a:off x="0" y="3429000"/>
              <a:ext cx="445788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234880" y="65278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84280" y="3649680"/>
              <a:ext cx="3622680" cy="2562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2880" y="62118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2880" y="569736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2880" y="51832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2880" y="46782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2880" y="416412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2880" y="364968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58428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116856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174312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32740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290196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348624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4060800" y="62114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1158840" y="5514840"/>
              <a:ext cx="30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1189080" y="5343480"/>
              <a:ext cx="8424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1273320" y="5169960"/>
              <a:ext cx="11412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1387440" y="5011200"/>
              <a:ext cx="13644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523880" y="4840200"/>
              <a:ext cx="14616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1670040" y="4678200"/>
              <a:ext cx="15732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827360" y="4508280"/>
              <a:ext cx="16668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1994040" y="4346640"/>
              <a:ext cx="16668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2160720" y="4175280"/>
              <a:ext cx="16668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2327400" y="4003200"/>
              <a:ext cx="16668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3267000" y="4829040"/>
              <a:ext cx="29232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2974680" y="4915080"/>
              <a:ext cx="2919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2682720" y="5000760"/>
              <a:ext cx="2923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2400480" y="5086440"/>
              <a:ext cx="2822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2118960" y="5170320"/>
              <a:ext cx="281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1847880" y="5257800"/>
              <a:ext cx="27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1585800" y="5343480"/>
              <a:ext cx="2620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1366920" y="5429160"/>
              <a:ext cx="21888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1199880" y="5504040"/>
              <a:ext cx="1666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1158480" y="5589720"/>
              <a:ext cx="414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3319560" y="4754160"/>
              <a:ext cx="2397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3110040" y="4667400"/>
              <a:ext cx="20952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2901960" y="4583160"/>
              <a:ext cx="208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2734920" y="4508280"/>
              <a:ext cx="16668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2589120" y="4420800"/>
              <a:ext cx="146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2473200" y="4336920"/>
              <a:ext cx="1159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2411280" y="4260600"/>
              <a:ext cx="619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390400" y="4175280"/>
              <a:ext cx="205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2390760" y="4088880"/>
              <a:ext cx="30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421000" y="4003560"/>
              <a:ext cx="730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506760" y="4775040"/>
              <a:ext cx="10476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43320" y="3949560"/>
              <a:ext cx="10296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106640" y="5622840"/>
              <a:ext cx="104760" cy="10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00280" y="391788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im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424680" y="501660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odaph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2520" y="558972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o Ti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06080" y="612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6080" y="561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6080" y="5095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6080" y="459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06080" y="407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6080" y="3564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224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13796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1108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9500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69920" y="6329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412800" y="6329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987360" y="6329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16200000">
              <a:off x="46080" y="486396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0" y="3429000"/>
              <a:ext cx="445788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"/>
          <p:cNvGrpSpPr/>
          <p:nvPr/>
        </p:nvGrpSpPr>
        <p:grpSpPr>
          <a:xfrm>
            <a:off x="0" y="2004840"/>
            <a:ext cx="7367040" cy="4853160"/>
            <a:chOff x="0" y="2004840"/>
            <a:chExt cx="7367040" cy="4853160"/>
          </a:xfrm>
        </p:grpSpPr>
        <p:sp>
          <p:nvSpPr>
            <p:cNvPr id="1434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8320" y="3664080"/>
              <a:ext cx="3716640" cy="2668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311200" y="651816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16200000">
              <a:off x="115920" y="49384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20149200">
              <a:off x="869400" y="3256560"/>
              <a:ext cx="6454800" cy="159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" y="9893"/>
                  </a:moveTo>
                  <a:arcTo wR="10800" hR="10800" stAng="-10510970" swAng="3688666"/>
                  <a:lnTo>
                    <a:pt x="10800" y="10800"/>
                  </a:lnTo>
                  <a:close/>
                </a:path>
                <a:path fill="none" w="21600" h="21600">
                  <a:moveTo>
                    <a:pt x="38" y="9893"/>
                  </a:moveTo>
                  <a:arcTo wR="10800" hR="10800" stAng="-10510970" swAng="3688666"/>
                </a:path>
              </a:pathLst>
            </a:custGeom>
            <a:noFill/>
            <a:ln cap="rnd"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81200" y="3990960"/>
              <a:ext cx="13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ficient Front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 rot="21360000">
              <a:off x="1132200" y="4560840"/>
              <a:ext cx="3908520" cy="130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93" y="2170"/>
                  </a:moveTo>
                  <a:arcTo wR="10800" hR="10800" stAng="-3182711" swAng="333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93" y="2170"/>
                  </a:moveTo>
                  <a:arcTo wR="10800" hR="10800" stAng="-3182711" swAng="3337913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922400" y="5829480"/>
              <a:ext cx="801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2404080" y="3861000"/>
              <a:ext cx="66888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12" y="429"/>
                  </a:moveTo>
                  <a:arcTo wR="10800" hR="10800" stAng="-4428316" swAng="37788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12" y="429"/>
                  </a:moveTo>
                  <a:arcTo wR="10800" hR="10800" stAng="-4428316" swAng="3778845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2399040" y="4203360"/>
              <a:ext cx="561600" cy="175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83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8386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2394000" y="4734000"/>
              <a:ext cx="17280" cy="46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51120" y="4471920"/>
              <a:ext cx="13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tainable Reg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306520" y="4734000"/>
              <a:ext cx="89712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057400" y="456408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214720" y="472752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65240" y="481320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916280" y="494172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76520" y="488484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06520" y="427824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517840" y="3978360"/>
              <a:ext cx="4932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062080" y="437508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301840" y="454824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52560" y="461952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93720" y="505296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716120" y="473400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471680" y="489096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28800" y="485928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98600" y="514512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422360" y="530856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2120" y="535464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84520" y="518148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770120" y="502776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25640" y="519120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082960" y="535464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238480" y="551664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946160" y="5084640"/>
              <a:ext cx="493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828800" y="506880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692360" y="5129280"/>
              <a:ext cx="489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847880" y="529272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847880" y="538488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160720" y="561960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70120" y="547704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04840" y="5456160"/>
              <a:ext cx="493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316240" y="578160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623960" y="5170320"/>
              <a:ext cx="493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779480" y="533412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935000" y="5497560"/>
              <a:ext cx="5112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969920" y="5364000"/>
              <a:ext cx="511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481040" y="500220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208160" y="5221440"/>
              <a:ext cx="50760" cy="5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565280" y="5308560"/>
              <a:ext cx="4932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41640" y="496728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438280" y="584820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833480" y="556272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62120" y="5246640"/>
              <a:ext cx="50760" cy="52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544760" y="5562720"/>
              <a:ext cx="50760" cy="5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1" name=""/>
          <p:cNvGrpSpPr/>
          <p:nvPr/>
        </p:nvGrpSpPr>
        <p:grpSpPr>
          <a:xfrm>
            <a:off x="-25560" y="2081520"/>
            <a:ext cx="7787520" cy="4776480"/>
            <a:chOff x="-25560" y="2081520"/>
            <a:chExt cx="7787520" cy="4776480"/>
          </a:xfrm>
        </p:grpSpPr>
        <p:sp>
          <p:nvSpPr>
            <p:cNvPr id="1492" name=""/>
            <p:cNvSpPr/>
            <p:nvPr/>
          </p:nvSpPr>
          <p:spPr>
            <a:xfrm>
              <a:off x="-25560" y="3429000"/>
              <a:ext cx="445788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0560" y="3683160"/>
              <a:ext cx="3622680" cy="2668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7680" y="633240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558720" y="633240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228400" y="66229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16200000">
              <a:off x="20880" y="49402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-25560" y="3429000"/>
              <a:ext cx="445788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20149200">
              <a:off x="1416960" y="3300840"/>
              <a:ext cx="6295680" cy="158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" y="9893"/>
                  </a:moveTo>
                  <a:arcTo wR="10800" hR="10800" stAng="-10510970" swAng="37906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8" y="9893"/>
                  </a:moveTo>
                  <a:arcTo wR="10800" hR="10800" stAng="-10510970" swAng="3790612"/>
                </a:path>
              </a:pathLst>
            </a:custGeom>
            <a:noFill/>
            <a:ln cap="rnd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 rot="21360000">
              <a:off x="1677960" y="4573800"/>
              <a:ext cx="3809880" cy="130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93" y="2170"/>
                  </a:moveTo>
                  <a:arcTo wR="10800" hR="10800" stAng="-3182711" swAng="3337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93" y="2170"/>
                  </a:moveTo>
                  <a:arcTo wR="10800" hR="10800" stAng="-3182711" swAng="3337913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459160" y="5829480"/>
              <a:ext cx="78084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2927160" y="3861000"/>
              <a:ext cx="65268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12" y="429"/>
                  </a:moveTo>
                  <a:arcTo wR="10800" hR="10800" stAng="-4428316" swAng="37788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12" y="429"/>
                  </a:moveTo>
                  <a:arcTo wR="10800" hR="10800" stAng="-4428316" swAng="3778845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 flipV="1">
              <a:off x="2922840" y="4203360"/>
              <a:ext cx="548640" cy="175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83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838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2917440" y="4734000"/>
              <a:ext cx="17640" cy="46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590920" y="456408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743200" y="472752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500200" y="481320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452680" y="494172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219400" y="488484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33560" y="42782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038400" y="397836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595600" y="437508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828880" y="454824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390760" y="461952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38400" y="505296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57560" y="473400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19240" y="489096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67000" y="485928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947960" y="514512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71720" y="530856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205000" y="53546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324160" y="518148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309760" y="502776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62040" y="519120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614680" y="53546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766960" y="551664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481120" y="50846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367000" y="506880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33440" y="512928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86080" y="529272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86080" y="538488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690640" y="561960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309760" y="547704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38360" y="545616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843280" y="578160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66840" y="517032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319480" y="533412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471760" y="5497560"/>
              <a:ext cx="4932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5240" y="536400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028960" y="500220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762200" y="5221440"/>
              <a:ext cx="48960" cy="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109960" y="530856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71920" y="496728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62440" y="5848200"/>
              <a:ext cx="4896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371680" y="5562720"/>
              <a:ext cx="4932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05000" y="5246640"/>
              <a:ext cx="49320" cy="5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90880" y="5562720"/>
              <a:ext cx="48960" cy="5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565200" y="3755880"/>
              <a:ext cx="2705040" cy="205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36400" y="5365800"/>
              <a:ext cx="447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313000" y="4402080"/>
              <a:ext cx="104760" cy="11592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2" y="0"/>
                  </a:moveTo>
                  <a:lnTo>
                    <a:pt x="44" y="22"/>
                  </a:lnTo>
                  <a:lnTo>
                    <a:pt x="22" y="4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041560" y="4265640"/>
              <a:ext cx="4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2" name=""/>
          <p:cNvGrpSpPr/>
          <p:nvPr/>
        </p:nvGrpSpPr>
        <p:grpSpPr>
          <a:xfrm>
            <a:off x="4572000" y="3489480"/>
            <a:ext cx="4506840" cy="3308040"/>
            <a:chOff x="4572000" y="3489480"/>
            <a:chExt cx="4506840" cy="3308040"/>
          </a:xfrm>
        </p:grpSpPr>
        <p:sp>
          <p:nvSpPr>
            <p:cNvPr id="1553" name=""/>
            <p:cNvSpPr/>
            <p:nvPr/>
          </p:nvSpPr>
          <p:spPr>
            <a:xfrm>
              <a:off x="4572000" y="3489480"/>
              <a:ext cx="4506840" cy="330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310360" y="3735360"/>
              <a:ext cx="3546360" cy="2390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264280" y="612612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264280" y="58309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264280" y="5526000"/>
              <a:ext cx="46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64280" y="523080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64280" y="493560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264280" y="462924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264280" y="433548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4280" y="402912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264280" y="3735360"/>
              <a:ext cx="4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310360" y="5230800"/>
              <a:ext cx="354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5310360" y="5230800"/>
              <a:ext cx="144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6024600" y="61246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6726240" y="61246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7440480" y="61246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8142120" y="6124680"/>
              <a:ext cx="1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8856720" y="6124680"/>
              <a:ext cx="144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05760" y="4121280"/>
              <a:ext cx="71280" cy="6660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1" y="0"/>
                  </a:moveTo>
                  <a:lnTo>
                    <a:pt x="42" y="22"/>
                  </a:lnTo>
                  <a:lnTo>
                    <a:pt x="21" y="45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626080" y="5797440"/>
              <a:ext cx="69840" cy="6840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1" y="0"/>
                  </a:moveTo>
                  <a:lnTo>
                    <a:pt x="41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686720" y="4233960"/>
              <a:ext cx="69840" cy="6804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0" y="0"/>
                  </a:moveTo>
                  <a:lnTo>
                    <a:pt x="41" y="22"/>
                  </a:lnTo>
                  <a:lnTo>
                    <a:pt x="20" y="45"/>
                  </a:lnTo>
                  <a:lnTo>
                    <a:pt x="0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689880" y="4902120"/>
              <a:ext cx="71280" cy="6840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1" y="0"/>
                  </a:moveTo>
                  <a:lnTo>
                    <a:pt x="42" y="22"/>
                  </a:lnTo>
                  <a:lnTo>
                    <a:pt x="21" y="45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475400" y="4481640"/>
              <a:ext cx="69840" cy="6984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0" y="0"/>
                  </a:moveTo>
                  <a:lnTo>
                    <a:pt x="41" y="23"/>
                  </a:lnTo>
                  <a:lnTo>
                    <a:pt x="20" y="46"/>
                  </a:lnTo>
                  <a:lnTo>
                    <a:pt x="0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5661000" y="4063680"/>
              <a:ext cx="2481120" cy="17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92680" y="3973680"/>
              <a:ext cx="10083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= 1.62R</a:t>
              </a:r>
              <a:r>
                <a:rPr b="0" lang="en-GB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- 4.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981320" y="6035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81320" y="5742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065560" y="54356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109840" y="5140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109840" y="484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28840" y="4538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8840" y="4245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28840" y="393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028840" y="3643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250960" y="62499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987520" y="6249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689520" y="6249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357680" y="6249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061120" y="6249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773920" y="6249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87560" y="6427800"/>
              <a:ext cx="103068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return, R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16200000">
              <a:off x="4337280" y="4964040"/>
              <a:ext cx="9698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Asset Return, R</a:t>
              </a:r>
              <a:r>
                <a:rPr b="1" lang="en-GB" sz="1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2000" y="3489480"/>
              <a:ext cx="4506840" cy="3308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829560" y="4981680"/>
              <a:ext cx="55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7380360" y="45864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512120" y="4791240"/>
              <a:ext cx="920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β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  <a:ea typeface="Times New Roman"/>
                </a:rPr>
                <a:t>i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=1.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0" y="3425760"/>
            <a:ext cx="4572000" cy="3432240"/>
            <a:chOff x="0" y="3425760"/>
            <a:chExt cx="4572000" cy="3432240"/>
          </a:xfrm>
        </p:grpSpPr>
        <p:sp>
          <p:nvSpPr>
            <p:cNvPr id="1600" name=""/>
            <p:cNvSpPr/>
            <p:nvPr/>
          </p:nvSpPr>
          <p:spPr>
            <a:xfrm>
              <a:off x="0" y="3425760"/>
              <a:ext cx="4572000" cy="34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89120" y="3683160"/>
              <a:ext cx="3554280" cy="2609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49160" y="629748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49160" y="596916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49160" y="564372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49160" y="53182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49160" y="4992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49160" y="466560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49160" y="4340160"/>
              <a:ext cx="3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49160" y="401328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49160" y="3687840"/>
              <a:ext cx="3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785880" y="62974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1679400" y="62974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562120" y="62974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3456000" y="629748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4340160" y="629748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814400" y="51483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851120" y="4782960"/>
              <a:ext cx="42840" cy="43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89280" y="4925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925640" y="52005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962000" y="49928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998720" y="50562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023920" y="46260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060640" y="45734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95560" y="46656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33720" y="45100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70080" y="5003640"/>
              <a:ext cx="42840" cy="43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206800" y="487512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244600" y="4562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281320" y="4898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317680" y="4925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352600" y="50180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379600" y="47181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416320" y="49514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451240" y="47052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489040" y="4782960"/>
              <a:ext cx="43200" cy="43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525760" y="49132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62120" y="4535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598840" y="46656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37000" y="4430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73360" y="45100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8280" y="46260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35280" y="47973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771640" y="47307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06560" y="41958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43280" y="4678200"/>
              <a:ext cx="42840" cy="43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1440" y="45100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917800" y="474516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54160" y="4692600"/>
              <a:ext cx="4320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92320" y="46260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029040" y="42480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65400" y="44956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89160" y="4157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127320" y="45482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164040" y="46004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98960" y="41432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36760" y="4130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273480" y="4079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309840" y="44578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348000" y="45356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384720" y="421020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21080" y="446868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44840" y="41702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83000" y="41180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785880" y="4111200"/>
              <a:ext cx="3025800" cy="1390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90320" y="620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0320" y="58784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0320" y="5553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0320" y="5227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0320" y="4898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6880" y="4573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6880" y="4248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6880" y="39225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6880" y="35971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48800" y="6413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593000" y="641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525400" y="6413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371040" y="641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301640" y="6413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15960" y="660888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16200000">
              <a:off x="41400" y="49528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02000" y="4600440"/>
              <a:ext cx="42840" cy="428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124000" y="383688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330280" y="4137120"/>
              <a:ext cx="14940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514520" y="5423040"/>
              <a:ext cx="579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907920" y="554688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11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080" y="3676680"/>
              <a:ext cx="3562560" cy="243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2160" y="6114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2160" y="5769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2160" y="54230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2160" y="50752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160" y="47163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2160" y="43704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2160" y="40226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2160" y="36766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5708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59876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45268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29580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15116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57080" y="4047840"/>
              <a:ext cx="1296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040" y="4048200"/>
              <a:ext cx="2376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93800" y="4208040"/>
              <a:ext cx="1116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4960" y="4208400"/>
              <a:ext cx="252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30160" y="424620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1320" y="4246560"/>
              <a:ext cx="1260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920" y="4791240"/>
              <a:ext cx="25560" cy="42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79480" y="5025960"/>
              <a:ext cx="1116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90640" y="4543560"/>
              <a:ext cx="2376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4543560"/>
              <a:ext cx="11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925560" y="5113080"/>
              <a:ext cx="252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950760" y="4752720"/>
              <a:ext cx="111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61920" y="4753080"/>
              <a:ext cx="1116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3080" y="5075280"/>
              <a:ext cx="255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8640" y="51246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011240" y="4853160"/>
              <a:ext cx="2232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3560" y="4853160"/>
              <a:ext cx="1404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47600" y="4889160"/>
              <a:ext cx="1116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058760" y="4790880"/>
              <a:ext cx="237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2520" y="4791240"/>
              <a:ext cx="1116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93680" y="4976640"/>
              <a:ext cx="2556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19240" y="5137200"/>
              <a:ext cx="111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400" y="51372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143000" y="5037120"/>
              <a:ext cx="237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6760" y="5037120"/>
              <a:ext cx="1260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361120"/>
              <a:ext cx="22320" cy="32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201680" y="5533920"/>
              <a:ext cx="14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16080" y="5533920"/>
              <a:ext cx="11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227240" y="548460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51000" y="5484960"/>
              <a:ext cx="111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62160" y="5495760"/>
              <a:ext cx="252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87360" y="560700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298520" y="5581440"/>
              <a:ext cx="23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322280" y="5470200"/>
              <a:ext cx="129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35240" y="547056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7840" y="5545080"/>
              <a:ext cx="237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371600" y="5459400"/>
              <a:ext cx="126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384200" y="5297400"/>
              <a:ext cx="2376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07960" y="529740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19120" y="528588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30280" y="5286240"/>
              <a:ext cx="255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455840" y="5187600"/>
              <a:ext cx="111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67000" y="5187960"/>
              <a:ext cx="237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90760" y="5297400"/>
              <a:ext cx="1404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04800" y="563256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515960" y="5645160"/>
              <a:ext cx="237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39720" y="5645160"/>
              <a:ext cx="111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550880" y="5632200"/>
              <a:ext cx="255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576440" y="5559120"/>
              <a:ext cx="111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587600" y="5484600"/>
              <a:ext cx="111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8760" y="5484960"/>
              <a:ext cx="252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23960" y="5595840"/>
              <a:ext cx="126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36560" y="5743440"/>
              <a:ext cx="223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58880" y="5794200"/>
              <a:ext cx="1440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3280" y="5732640"/>
              <a:ext cx="223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95600" y="5732640"/>
              <a:ext cx="1260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708200" y="57690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719360" y="5668920"/>
              <a:ext cx="2520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44560" y="566892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5720" y="5719680"/>
              <a:ext cx="255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781280" y="570672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92440" y="563220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05040" y="5632560"/>
              <a:ext cx="223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7360" y="5657760"/>
              <a:ext cx="140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841400" y="5719680"/>
              <a:ext cx="237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65160" y="5719680"/>
              <a:ext cx="111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76320" y="580536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887480" y="5780160"/>
              <a:ext cx="255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913040" y="574344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4200" y="574344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949400" y="5732640"/>
              <a:ext cx="111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0560" y="5732640"/>
              <a:ext cx="12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73160" y="578016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96920" y="591660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009880" y="5880240"/>
              <a:ext cx="237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33640" y="5880240"/>
              <a:ext cx="1116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044800" y="5916240"/>
              <a:ext cx="252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70000" y="591660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081160" y="594216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92320" y="594216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117880" y="5916240"/>
              <a:ext cx="126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0480" y="5916600"/>
              <a:ext cx="223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152800" y="596700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65400" y="596736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178000" y="5930640"/>
              <a:ext cx="237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01760" y="59310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212920" y="5892840"/>
              <a:ext cx="25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238480" y="584172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49640" y="584208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262240" y="5905080"/>
              <a:ext cx="223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84560" y="5905440"/>
              <a:ext cx="14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298600" y="5867280"/>
              <a:ext cx="223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20920" y="58672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333520" y="5768640"/>
              <a:ext cx="129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46480" y="5769000"/>
              <a:ext cx="237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370240" y="580536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381400" y="5768640"/>
              <a:ext cx="252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406600" y="573228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417760" y="571968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441520" y="5533920"/>
              <a:ext cx="1116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452680" y="5408640"/>
              <a:ext cx="144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67080" y="5408640"/>
              <a:ext cx="237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490840" y="5470560"/>
              <a:ext cx="11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2000" y="5470560"/>
              <a:ext cx="252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527200" y="5408280"/>
              <a:ext cx="111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538360" y="5310000"/>
              <a:ext cx="111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49520" y="531036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75080" y="5335560"/>
              <a:ext cx="108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585880" y="5495760"/>
              <a:ext cx="241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10000" y="5495760"/>
              <a:ext cx="1260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622600" y="5581440"/>
              <a:ext cx="126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35200" y="5581800"/>
              <a:ext cx="237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58960" y="5632560"/>
              <a:ext cx="111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670120" y="5732640"/>
              <a:ext cx="255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695680" y="5706720"/>
              <a:ext cx="11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706840" y="569412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730600" y="5595840"/>
              <a:ext cx="1260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743200" y="5433840"/>
              <a:ext cx="126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55800" y="5433840"/>
              <a:ext cx="2232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78120" y="5533920"/>
              <a:ext cx="126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790720" y="5581800"/>
              <a:ext cx="237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814480" y="5484600"/>
              <a:ext cx="129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27440" y="5484960"/>
              <a:ext cx="111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838600" y="5408640"/>
              <a:ext cx="25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863800" y="5297040"/>
              <a:ext cx="111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74960" y="5297400"/>
              <a:ext cx="237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98720" y="5297400"/>
              <a:ext cx="126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11320" y="5297400"/>
              <a:ext cx="129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924280" y="5322600"/>
              <a:ext cx="219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46240" y="532296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959200" y="5286240"/>
              <a:ext cx="252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984400" y="5149440"/>
              <a:ext cx="111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95560" y="5149800"/>
              <a:ext cx="111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06720" y="5224320"/>
              <a:ext cx="255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032280" y="5149800"/>
              <a:ext cx="1080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3080" y="5149800"/>
              <a:ext cx="241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67200" y="5261040"/>
              <a:ext cx="126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79800" y="542304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03560" y="5559480"/>
              <a:ext cx="126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16160" y="5621400"/>
              <a:ext cx="111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127320" y="569412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52880" y="5544720"/>
              <a:ext cx="1116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64040" y="554508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87800" y="5570640"/>
              <a:ext cx="126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200400" y="557028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11560" y="5570640"/>
              <a:ext cx="237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35320" y="5581800"/>
              <a:ext cx="144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49720" y="5581800"/>
              <a:ext cx="2196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71680" y="5621400"/>
              <a:ext cx="129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284640" y="5668560"/>
              <a:ext cx="111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95800" y="5668920"/>
              <a:ext cx="252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321000" y="566856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332160" y="5408280"/>
              <a:ext cx="2376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5920" y="5408640"/>
              <a:ext cx="126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68520" y="5433840"/>
              <a:ext cx="129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81480" y="5470560"/>
              <a:ext cx="219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403440" y="5397120"/>
              <a:ext cx="144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17840" y="5397480"/>
              <a:ext cx="223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440160" y="5335200"/>
              <a:ext cx="1260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452760" y="5211720"/>
              <a:ext cx="255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78320" y="521172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89480" y="5211720"/>
              <a:ext cx="108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0280" y="5408640"/>
              <a:ext cx="241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24400" y="552132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537000" y="5322960"/>
              <a:ext cx="2376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60760" y="5322960"/>
              <a:ext cx="1116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920" y="5657760"/>
              <a:ext cx="144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586320" y="5632560"/>
              <a:ext cx="237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0080" y="5632560"/>
              <a:ext cx="111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21240" y="5681520"/>
              <a:ext cx="252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46440" y="5719680"/>
              <a:ext cx="111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57600" y="5794200"/>
              <a:ext cx="1116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68760" y="58183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692520" y="5719680"/>
              <a:ext cx="1260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05120" y="571968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728880" y="5817960"/>
              <a:ext cx="1296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41840" y="5818320"/>
              <a:ext cx="126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754440" y="587988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778200" y="5855760"/>
              <a:ext cx="1116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789360" y="5805000"/>
              <a:ext cx="25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14920" y="5805360"/>
              <a:ext cx="108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825720" y="5768640"/>
              <a:ext cx="241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9840" y="5769000"/>
              <a:ext cx="108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860640" y="5732280"/>
              <a:ext cx="1440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75040" y="5732640"/>
              <a:ext cx="223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97360" y="5769000"/>
              <a:ext cx="1260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09960" y="586728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933720" y="5867280"/>
              <a:ext cx="129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46680" y="5867280"/>
              <a:ext cx="10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957480" y="5855760"/>
              <a:ext cx="255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83040" y="585612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94200" y="590544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017960" y="5842080"/>
              <a:ext cx="11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29120" y="5842080"/>
              <a:ext cx="14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043520" y="5719680"/>
              <a:ext cx="2196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65480" y="5719680"/>
              <a:ext cx="1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078440" y="5657760"/>
              <a:ext cx="252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03640" y="5595840"/>
              <a:ext cx="111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14800" y="5595840"/>
              <a:ext cx="111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25960" y="5681520"/>
              <a:ext cx="2520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7160" y="6029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7160" y="568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7160" y="533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7160" y="49896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7160" y="46292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160" y="4282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7160" y="39369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7160" y="3591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1800" y="622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26760" y="6227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45760" y="622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7080" y="622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42800" y="622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77280" y="648648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D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87120" y="482400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343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6200" y="3676680"/>
              <a:ext cx="3805200" cy="243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71640" y="5843520"/>
              <a:ext cx="155520" cy="271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5160" y="5732640"/>
              <a:ext cx="168120" cy="382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11280" y="5408640"/>
              <a:ext cx="168120" cy="706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87400" y="3948120"/>
              <a:ext cx="155880" cy="21668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0920" y="4221000"/>
              <a:ext cx="168480" cy="1893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27400" y="4494240"/>
              <a:ext cx="168120" cy="1620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03520" y="4383000"/>
              <a:ext cx="157320" cy="1731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68480" y="4975200"/>
              <a:ext cx="168480" cy="1139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44960" y="5570640"/>
              <a:ext cx="153720" cy="544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06680" y="5843520"/>
              <a:ext cx="168480" cy="271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83160" y="6066000"/>
              <a:ext cx="168120" cy="48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59280" y="6066000"/>
              <a:ext cx="156960" cy="48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280" y="6114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1280" y="584352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1280" y="5570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1280" y="52974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280" y="5025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1280" y="47656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1280" y="44942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1280" y="42210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280" y="39481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1280" y="36766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4620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92232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18728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46376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73988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00484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7952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55600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81952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09564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36060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35280" y="6114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91176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17528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451400" y="6114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0600" y="602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0600" y="5756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7520" y="5484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7520" y="5211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7520" y="493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7520" y="4680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7520" y="4406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7520" y="4135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7520" y="3862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7520" y="358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104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4752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2364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8716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63280" y="6226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1104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2668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0280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6776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4424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036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8244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5856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34680" y="6226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28120" y="64864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-77040" y="484524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409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5640" y="3675240"/>
              <a:ext cx="3565440" cy="2442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0720" y="61182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0720" y="57736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0720" y="54151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0720" y="5068800"/>
              <a:ext cx="34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0720" y="472428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0720" y="4378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" y="401940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0720" y="3675240"/>
              <a:ext cx="349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55640" y="6117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606680" y="6117840"/>
              <a:ext cx="288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448000" y="6117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298680" y="6117840"/>
              <a:ext cx="1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152960" y="611784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755640" y="4044960"/>
              <a:ext cx="1260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8240" y="4044960"/>
              <a:ext cx="2376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2000" y="4206600"/>
              <a:ext cx="1116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3160" y="4206960"/>
              <a:ext cx="255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828720" y="424332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9880" y="4243320"/>
              <a:ext cx="1116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1040" y="4797360"/>
              <a:ext cx="2520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876240" y="5020920"/>
              <a:ext cx="111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887400" y="4538160"/>
              <a:ext cx="2376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11160" y="4538520"/>
              <a:ext cx="1116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922320" y="5106960"/>
              <a:ext cx="255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947880" y="4760640"/>
              <a:ext cx="1080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58680" y="4761000"/>
              <a:ext cx="12960" cy="30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71640" y="5068800"/>
              <a:ext cx="252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996840" y="511812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008000" y="4858920"/>
              <a:ext cx="2376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31760" y="4859280"/>
              <a:ext cx="111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042920" y="4884840"/>
              <a:ext cx="1260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055520" y="4786200"/>
              <a:ext cx="2412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9640" y="4786200"/>
              <a:ext cx="1080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90440" y="4981680"/>
              <a:ext cx="2556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1116000" y="5143680"/>
              <a:ext cx="1116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27160" y="514368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1150920" y="5045040"/>
              <a:ext cx="1260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63520" y="5045040"/>
              <a:ext cx="1296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76480" y="5353200"/>
              <a:ext cx="2196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198440" y="5526000"/>
              <a:ext cx="12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11400" y="5526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235160" y="5489280"/>
              <a:ext cx="1260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47760" y="548964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58920" y="5500800"/>
              <a:ext cx="252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84120" y="561168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1295280" y="5587560"/>
              <a:ext cx="237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1319040" y="5464080"/>
              <a:ext cx="129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32000" y="54640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55760" y="554976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366920" y="5452560"/>
              <a:ext cx="126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379520" y="5305320"/>
              <a:ext cx="237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03280" y="5305320"/>
              <a:ext cx="126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415880" y="5280120"/>
              <a:ext cx="223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38200" y="5280120"/>
              <a:ext cx="1440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452600" y="5192280"/>
              <a:ext cx="11160" cy="23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63760" y="5192640"/>
              <a:ext cx="237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87520" y="5305320"/>
              <a:ext cx="1260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00120" y="5637240"/>
              <a:ext cx="237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523880" y="56484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35040" y="56484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1546200" y="5626080"/>
              <a:ext cx="255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1571760" y="5562720"/>
              <a:ext cx="126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584360" y="5489280"/>
              <a:ext cx="2232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06680" y="5489640"/>
              <a:ext cx="140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20720" y="5587920"/>
              <a:ext cx="223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43040" y="5748480"/>
              <a:ext cx="12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55640" y="5796000"/>
              <a:ext cx="129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668600" y="5735160"/>
              <a:ext cx="2376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92360" y="5735520"/>
              <a:ext cx="1116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1703520" y="5773680"/>
              <a:ext cx="252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728720" y="5673600"/>
              <a:ext cx="111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39880" y="567360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51040" y="5711760"/>
              <a:ext cx="237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774800" y="5698800"/>
              <a:ext cx="1260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787400" y="5637240"/>
              <a:ext cx="237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11160" y="563724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22320" y="5662440"/>
              <a:ext cx="2556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1847880" y="5722560"/>
              <a:ext cx="126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60480" y="5722920"/>
              <a:ext cx="11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71640" y="5810400"/>
              <a:ext cx="255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897200" y="5784840"/>
              <a:ext cx="108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908000" y="5748120"/>
              <a:ext cx="241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32120" y="574848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943280" y="5722560"/>
              <a:ext cx="126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55880" y="5722920"/>
              <a:ext cx="237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79640" y="5784840"/>
              <a:ext cx="111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90800" y="5921280"/>
              <a:ext cx="252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016000" y="5882760"/>
              <a:ext cx="1116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27160" y="5883120"/>
              <a:ext cx="1260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2039760" y="5908320"/>
              <a:ext cx="241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63880" y="5908680"/>
              <a:ext cx="1260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076480" y="5946840"/>
              <a:ext cx="223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98800" y="5946840"/>
              <a:ext cx="126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111400" y="5920920"/>
              <a:ext cx="237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35160" y="5921280"/>
              <a:ext cx="126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147760" y="5968800"/>
              <a:ext cx="111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58920" y="596916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184480" y="593244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95640" y="593244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19400" y="5895720"/>
              <a:ext cx="126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232000" y="5846400"/>
              <a:ext cx="126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44600" y="5846760"/>
              <a:ext cx="2232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2266920" y="590832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9520" y="5908680"/>
              <a:ext cx="2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303640" y="5870520"/>
              <a:ext cx="126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16240" y="587052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2338560" y="5773320"/>
              <a:ext cx="1404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52600" y="5773680"/>
              <a:ext cx="111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2363760" y="5810040"/>
              <a:ext cx="237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2387520" y="5773680"/>
              <a:ext cx="129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400480" y="5722560"/>
              <a:ext cx="237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24240" y="572292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2435400" y="5538600"/>
              <a:ext cx="1260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2448000" y="5402160"/>
              <a:ext cx="237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71760" y="5402160"/>
              <a:ext cx="1260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2484360" y="5474880"/>
              <a:ext cx="223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06680" y="5475240"/>
              <a:ext cx="144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2521080" y="5402160"/>
              <a:ext cx="219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543040" y="5304960"/>
              <a:ext cx="129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56000" y="530532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67160" y="5342040"/>
              <a:ext cx="252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592360" y="548928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3520" y="5489640"/>
              <a:ext cx="255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629080" y="5587560"/>
              <a:ext cx="10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39880" y="558792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51040" y="5637240"/>
              <a:ext cx="237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674800" y="5722560"/>
              <a:ext cx="12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687760" y="571140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711520" y="568656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722680" y="5600880"/>
              <a:ext cx="126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735280" y="5438880"/>
              <a:ext cx="2556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60840" y="5438880"/>
              <a:ext cx="1080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71640" y="5538960"/>
              <a:ext cx="255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797200" y="5587920"/>
              <a:ext cx="1116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808360" y="5489280"/>
              <a:ext cx="237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32120" y="548964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843280" y="5415120"/>
              <a:ext cx="1260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855880" y="5304960"/>
              <a:ext cx="2376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79640" y="530532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890800" y="5290920"/>
              <a:ext cx="25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16360" y="5291280"/>
              <a:ext cx="11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927520" y="5327640"/>
              <a:ext cx="126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40120" y="532764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962440" y="5280120"/>
              <a:ext cx="1404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976480" y="5143320"/>
              <a:ext cx="223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98800" y="5143680"/>
              <a:ext cx="126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11400" y="5229360"/>
              <a:ext cx="255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036960" y="5143320"/>
              <a:ext cx="111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5143680"/>
              <a:ext cx="111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59280" y="5265720"/>
              <a:ext cx="25200" cy="1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84480" y="5427720"/>
              <a:ext cx="111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95640" y="5549760"/>
              <a:ext cx="2376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19400" y="5626080"/>
              <a:ext cx="111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3130560" y="5698800"/>
              <a:ext cx="144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144960" y="5549400"/>
              <a:ext cx="2196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66920" y="554976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79880" y="5575320"/>
              <a:ext cx="237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203640" y="5562720"/>
              <a:ext cx="126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16240" y="5562720"/>
              <a:ext cx="1116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3227400" y="5587560"/>
              <a:ext cx="255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52960" y="5587920"/>
              <a:ext cx="10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63760" y="5626080"/>
              <a:ext cx="2412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287880" y="5673240"/>
              <a:ext cx="10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98680" y="5673600"/>
              <a:ext cx="255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3324240" y="567324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335400" y="5402160"/>
              <a:ext cx="1260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48000" y="5402160"/>
              <a:ext cx="237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71760" y="5438880"/>
              <a:ext cx="12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84720" y="5475240"/>
              <a:ext cx="219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406680" y="5401800"/>
              <a:ext cx="144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1080" y="5402160"/>
              <a:ext cx="1116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432240" y="5342040"/>
              <a:ext cx="237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456000" y="5205240"/>
              <a:ext cx="1116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67160" y="5205240"/>
              <a:ext cx="252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92360" y="5218200"/>
              <a:ext cx="1116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3520" y="5415120"/>
              <a:ext cx="25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29080" y="5526000"/>
              <a:ext cx="1116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540240" y="5316480"/>
              <a:ext cx="1116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51400" y="5316480"/>
              <a:ext cx="2376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75160" y="5648400"/>
              <a:ext cx="126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587760" y="5636880"/>
              <a:ext cx="237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11520" y="5637240"/>
              <a:ext cx="126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24120" y="568656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35280" y="5722920"/>
              <a:ext cx="2556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60840" y="57960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72000" y="582120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695760" y="5722560"/>
              <a:ext cx="1260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08360" y="5722920"/>
              <a:ext cx="2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2120" y="582120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43280" y="5821200"/>
              <a:ext cx="1260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755880" y="5883120"/>
              <a:ext cx="241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3780000" y="5859360"/>
              <a:ext cx="10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3790800" y="5810400"/>
              <a:ext cx="255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6360" y="5810400"/>
              <a:ext cx="111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827520" y="5773680"/>
              <a:ext cx="126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40120" y="5773680"/>
              <a:ext cx="2232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3862440" y="5735520"/>
              <a:ext cx="1440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76840" y="5735520"/>
              <a:ext cx="219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8800" y="5773680"/>
              <a:ext cx="129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11760" y="587052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924360" y="587016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48120" y="5870520"/>
              <a:ext cx="11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3959280" y="5859000"/>
              <a:ext cx="252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4480" y="5859360"/>
              <a:ext cx="1116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95640" y="590868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019400" y="5846760"/>
              <a:ext cx="111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30560" y="58467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044960" y="5711400"/>
              <a:ext cx="2232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67280" y="571176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4079880" y="5662440"/>
              <a:ext cx="2376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4103640" y="5600520"/>
              <a:ext cx="12600" cy="6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16240" y="5600880"/>
              <a:ext cx="1116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27400" y="5673600"/>
              <a:ext cx="255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5640" y="437832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8240" y="43909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92000" y="436572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3160" y="436572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828720" y="43653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39880" y="43542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51040" y="4354560"/>
              <a:ext cx="2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76240" y="435456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887400" y="435420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11160" y="435456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22320" y="436572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47880" y="4390920"/>
              <a:ext cx="10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58680" y="441648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71640" y="4416480"/>
              <a:ext cx="252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996840" y="441612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08000" y="4416480"/>
              <a:ext cx="237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1031760" y="442728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2920" y="442764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1055520" y="4416480"/>
              <a:ext cx="241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1079640" y="4365360"/>
              <a:ext cx="10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1090440" y="4354200"/>
              <a:ext cx="255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16000" y="43545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127160" y="435456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50920" y="436572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1163520" y="4354200"/>
              <a:ext cx="12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176480" y="4328640"/>
              <a:ext cx="21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198440" y="4292280"/>
              <a:ext cx="12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11400" y="4292640"/>
              <a:ext cx="237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235160" y="43174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47760" y="431784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58920" y="4329000"/>
              <a:ext cx="252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1284120" y="430344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5280" y="430380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1319040" y="4292280"/>
              <a:ext cx="12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32000" y="42926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355760" y="429228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366920" y="427968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1379520" y="426708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03280" y="426708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15880" y="4280040"/>
              <a:ext cx="223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38200" y="4292640"/>
              <a:ext cx="144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452600" y="4280040"/>
              <a:ext cx="111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63760" y="428004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87520" y="429264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00120" y="4303800"/>
              <a:ext cx="23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23880" y="431784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35040" y="43290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46200" y="4340160"/>
              <a:ext cx="255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1571760" y="4339800"/>
              <a:ext cx="126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584360" y="4317840"/>
              <a:ext cx="223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06680" y="4317840"/>
              <a:ext cx="140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20720" y="4354560"/>
              <a:ext cx="223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1643040" y="4339800"/>
              <a:ext cx="126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55640" y="4340160"/>
              <a:ext cx="129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668600" y="432864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92360" y="4329000"/>
              <a:ext cx="111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1703520" y="4354200"/>
              <a:ext cx="252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8720" y="43545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739880" y="434016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751040" y="43286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774800" y="43174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87400" y="43178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11160" y="43290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22320" y="434016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7880" y="4340160"/>
              <a:ext cx="126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60480" y="435456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1640" y="439092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97200" y="439092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1908000" y="4377960"/>
              <a:ext cx="241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32120" y="437832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943280" y="436536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55880" y="436572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979640" y="43653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90800" y="4365720"/>
              <a:ext cx="252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016000" y="437832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27160" y="439092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39760" y="4390920"/>
              <a:ext cx="241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63880" y="44038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76480" y="440388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098800" y="439092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11400" y="439092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35160" y="439092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47760" y="440388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58920" y="440388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84480" y="4416480"/>
              <a:ext cx="111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2195640" y="442728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2219400" y="441612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2232000" y="440352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44600" y="4403880"/>
              <a:ext cx="223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66920" y="44164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79520" y="4427640"/>
              <a:ext cx="241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03640" y="4452840"/>
              <a:ext cx="126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16240" y="4491000"/>
              <a:ext cx="223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38560" y="4513320"/>
              <a:ext cx="140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52600" y="452772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363760" y="450180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87520" y="4502160"/>
              <a:ext cx="12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00480" y="45133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424240" y="45018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5400" y="45021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2448000" y="447624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471760" y="4465800"/>
              <a:ext cx="126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84360" y="446580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506680" y="4465800"/>
              <a:ext cx="144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2521080" y="4476600"/>
              <a:ext cx="219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2543040" y="4465800"/>
              <a:ext cx="1296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56000" y="44658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2567160" y="4439880"/>
              <a:ext cx="252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92360" y="4440240"/>
              <a:ext cx="11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603520" y="446580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29080" y="4465800"/>
              <a:ext cx="10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39880" y="44658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651040" y="446580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674800" y="443988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87760" y="444024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711520" y="443988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22680" y="44402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2735280" y="4427280"/>
              <a:ext cx="255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2760840" y="4416120"/>
              <a:ext cx="10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71640" y="4416480"/>
              <a:ext cx="255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97200" y="444024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2808360" y="4427280"/>
              <a:ext cx="237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32120" y="442764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843280" y="4403880"/>
              <a:ext cx="126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2855880" y="4390920"/>
              <a:ext cx="23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879640" y="437796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2890800" y="4354560"/>
              <a:ext cx="255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16360" y="435456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27520" y="435456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40120" y="436572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62440" y="43657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76480" y="4365720"/>
              <a:ext cx="22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998800" y="435420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11400" y="4354560"/>
              <a:ext cx="255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36960" y="4365720"/>
              <a:ext cx="11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8120" y="437832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059280" y="4340160"/>
              <a:ext cx="252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84480" y="4340160"/>
              <a:ext cx="11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095640" y="4317840"/>
              <a:ext cx="237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19400" y="431784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30560" y="43178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44960" y="4317840"/>
              <a:ext cx="21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66920" y="432900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3179880" y="4340160"/>
              <a:ext cx="237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3203640" y="4317840"/>
              <a:ext cx="126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16240" y="431784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3227400" y="429264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52960" y="4292640"/>
              <a:ext cx="10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63760" y="4303800"/>
              <a:ext cx="2412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87880" y="4317840"/>
              <a:ext cx="10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98680" y="4329000"/>
              <a:ext cx="255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324240" y="4328640"/>
              <a:ext cx="11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35400" y="4329000"/>
              <a:ext cx="126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348000" y="4365720"/>
              <a:ext cx="23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3371760" y="4339800"/>
              <a:ext cx="129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3384720" y="4328640"/>
              <a:ext cx="21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06680" y="432900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421080" y="431748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3432240" y="4303440"/>
              <a:ext cx="23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456000" y="4280040"/>
              <a:ext cx="111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160" y="4280040"/>
              <a:ext cx="252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92360" y="4303800"/>
              <a:ext cx="11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03520" y="4303800"/>
              <a:ext cx="255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29080" y="432900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40240" y="434016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3551400" y="43286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3575160" y="43174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587760" y="4292640"/>
              <a:ext cx="237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611520" y="4279680"/>
              <a:ext cx="126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3624120" y="4267080"/>
              <a:ext cx="11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35280" y="4267080"/>
              <a:ext cx="255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60840" y="43038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672000" y="431748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95760" y="43178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708360" y="4317840"/>
              <a:ext cx="23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3732120" y="4317480"/>
              <a:ext cx="111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743280" y="43178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55880" y="4317840"/>
              <a:ext cx="24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3780000" y="4292280"/>
              <a:ext cx="108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90800" y="429264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16360" y="4292640"/>
              <a:ext cx="111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827520" y="4303800"/>
              <a:ext cx="1260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40120" y="4292280"/>
              <a:ext cx="223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862440" y="429264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76840" y="4292640"/>
              <a:ext cx="219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98800" y="43038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911760" y="429228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924360" y="426672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48120" y="426708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59280" y="4267080"/>
              <a:ext cx="25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84480" y="4267080"/>
              <a:ext cx="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95640" y="4267080"/>
              <a:ext cx="2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19400" y="4267080"/>
              <a:ext cx="11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30560" y="4280040"/>
              <a:ext cx="144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4044960" y="4280040"/>
              <a:ext cx="2232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4067280" y="4267080"/>
              <a:ext cx="12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79880" y="4267080"/>
              <a:ext cx="23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03640" y="4292640"/>
              <a:ext cx="126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116240" y="4303800"/>
              <a:ext cx="1116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27400" y="4329000"/>
              <a:ext cx="2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7160" y="603252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7160" y="568656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07160" y="532764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7160" y="498168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7160" y="463860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7160" y="429264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7160" y="393372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7160" y="3587760"/>
              <a:ext cx="24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0720" y="62294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34680" y="6229440"/>
              <a:ext cx="140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37840" y="6229440"/>
              <a:ext cx="210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91760" y="6229440"/>
              <a:ext cx="210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44240" y="6229440"/>
              <a:ext cx="210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71160" y="6488280"/>
              <a:ext cx="6681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ime, D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6200000">
              <a:off x="85320" y="4831920"/>
              <a:ext cx="308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65320" y="4716360"/>
              <a:ext cx="62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t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65320" y="3867120"/>
              <a:ext cx="62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t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842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17480" y="3675240"/>
              <a:ext cx="3735360" cy="2442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93760" y="4119480"/>
              <a:ext cx="168480" cy="19987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370240" y="4044960"/>
              <a:ext cx="155520" cy="2073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1120" y="6118200"/>
              <a:ext cx="363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1120" y="57117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1120" y="53038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1120" y="48974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1120" y="44895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1120" y="408132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1120" y="367524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71748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98100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125568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151920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178452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04624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232092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58588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284796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312264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338760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65112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913200" y="611820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418932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452840" y="611820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1160" y="603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7360" y="562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7360" y="521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77360" y="481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7360" y="440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05720" y="3995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05720" y="3589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088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440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8088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4260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06120" y="6229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54240" y="622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6952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3304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9476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7124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3476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9828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7368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36480" y="622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70240" y="6488280"/>
              <a:ext cx="40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6200000">
              <a:off x="-80280" y="4849920"/>
              <a:ext cx="64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893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3320" y="3676680"/>
              <a:ext cx="3548160" cy="2438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6960" y="611496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6960" y="563256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6960" y="513720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6960" y="4654440"/>
              <a:ext cx="36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6960" y="41608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6960" y="3676680"/>
              <a:ext cx="36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33320" y="61149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1325520" y="61149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1919160" y="61149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2511360" y="6114960"/>
              <a:ext cx="180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3094200" y="6114960"/>
              <a:ext cx="28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3687840" y="61149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4281480" y="6114960"/>
              <a:ext cx="144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44520" y="5653080"/>
              <a:ext cx="122400" cy="1238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35" y="0"/>
                  </a:moveTo>
                  <a:lnTo>
                    <a:pt x="71" y="37"/>
                  </a:lnTo>
                  <a:lnTo>
                    <a:pt x="35" y="73"/>
                  </a:lnTo>
                  <a:lnTo>
                    <a:pt x="0" y="3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52920" y="4073400"/>
              <a:ext cx="122040" cy="12240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36" y="0"/>
                  </a:moveTo>
                  <a:lnTo>
                    <a:pt x="71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0240" y="602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4560" y="5545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4400" y="5049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4560" y="45687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4400" y="4073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560" y="3589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96960" y="6226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17396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6760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6160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94264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71200" y="6226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28480" y="6226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652760" y="6485040"/>
              <a:ext cx="161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ndard Deviation or Ri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-232560" y="4713120"/>
              <a:ext cx="94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verage 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62280" y="4049640"/>
              <a:ext cx="62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t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484280" y="5413320"/>
              <a:ext cx="62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set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"/>
          <p:cNvGrpSpPr/>
          <p:nvPr/>
        </p:nvGrpSpPr>
        <p:grpSpPr>
          <a:xfrm>
            <a:off x="52560" y="3481560"/>
            <a:ext cx="4456080" cy="3305160"/>
            <a:chOff x="52560" y="3481560"/>
            <a:chExt cx="4456080" cy="3305160"/>
          </a:xfrm>
        </p:grpSpPr>
        <p:sp>
          <p:nvSpPr>
            <p:cNvPr id="929" name=""/>
            <p:cNvSpPr/>
            <p:nvPr/>
          </p:nvSpPr>
          <p:spPr>
            <a:xfrm>
              <a:off x="52560" y="3481560"/>
              <a:ext cx="4456080" cy="330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11360" y="3705120"/>
              <a:ext cx="3543120" cy="2440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8160" y="614520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8160" y="590076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8160" y="565632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8160" y="541188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8160" y="516888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8160" y="492444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8160" y="468000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8160" y="4437000"/>
              <a:ext cx="43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8160" y="419256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8160" y="3948120"/>
              <a:ext cx="43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8160" y="3705120"/>
              <a:ext cx="43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1136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130500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1887480" y="614484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48292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307656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659040" y="614484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254480" y="614484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238480" y="4745160"/>
              <a:ext cx="7128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65400" y="476568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206800" y="397980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941480" y="4892760"/>
              <a:ext cx="7164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14560" y="5572080"/>
              <a:ext cx="7128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94560" y="554976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o Ti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20760" y="487188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18840" y="472284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og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87520" y="395928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im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45400" y="474516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od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n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3640" y="605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3640" y="5815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13640" y="55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3640" y="532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13640" y="508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13640" y="4840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13640" y="4595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13640" y="4351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13640" y="410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13640" y="3863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13640" y="361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5240" y="6261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208880" y="6261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791720" y="6261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85360" y="6261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48760" y="6261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531600" y="6261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125240" y="6261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90320" y="646272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6200000">
              <a:off x="-20880" y="486108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sp>
          <p:nvSpPr>
            <p:cNvPr id="980" name=""/>
            <p:cNvSpPr/>
            <p:nvPr/>
          </p:nvSpPr>
          <p:spPr>
            <a:xfrm>
              <a:off x="0" y="3429000"/>
              <a:ext cx="4572000" cy="3429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23760" y="3654360"/>
              <a:ext cx="3311640" cy="2505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90640" y="61596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90640" y="58816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90640" y="560376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90640" y="532296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90640" y="50468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90640" y="476712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90640" y="449100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90640" y="42102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90640" y="393228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90640" y="365436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923760" y="61592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1589040" y="6159240"/>
              <a:ext cx="3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2246400" y="61592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2913120" y="61592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3568680" y="615924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4235400" y="61592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23760" y="5603760"/>
              <a:ext cx="665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589040" y="5603760"/>
              <a:ext cx="65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246400" y="5603760"/>
              <a:ext cx="666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13120" y="5603760"/>
              <a:ext cx="655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923760" y="5881680"/>
              <a:ext cx="66528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1589040" y="5603760"/>
              <a:ext cx="65736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2246400" y="5322960"/>
              <a:ext cx="66672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2913120" y="5046480"/>
              <a:ext cx="65556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923760" y="5322960"/>
              <a:ext cx="66528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1589040" y="5046480"/>
              <a:ext cx="65736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2246400" y="4766760"/>
              <a:ext cx="666720" cy="27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2913120" y="4490640"/>
              <a:ext cx="65556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923760" y="5603760"/>
              <a:ext cx="66528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1589040" y="5046480"/>
              <a:ext cx="657360" cy="55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2246400" y="4491000"/>
              <a:ext cx="6667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913120" y="3932280"/>
              <a:ext cx="655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90640" y="5567400"/>
              <a:ext cx="6336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39" y="20"/>
                  </a:lnTo>
                  <a:lnTo>
                    <a:pt x="20" y="39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558800" y="5567400"/>
              <a:ext cx="6372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214720" y="5567400"/>
              <a:ext cx="63360" cy="698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1440" y="5567400"/>
              <a:ext cx="6336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38440" y="5567400"/>
              <a:ext cx="6372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20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90640" y="6124680"/>
              <a:ext cx="63360" cy="69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58800" y="5846760"/>
              <a:ext cx="6372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214720" y="5567400"/>
              <a:ext cx="6336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81440" y="5289480"/>
              <a:ext cx="6336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538440" y="5010120"/>
              <a:ext cx="63720" cy="69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90640" y="5567400"/>
              <a:ext cx="6336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58800" y="5289480"/>
              <a:ext cx="63720" cy="698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214720" y="5010120"/>
              <a:ext cx="63360" cy="698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9" y="0"/>
                  </a:moveTo>
                  <a:lnTo>
                    <a:pt x="38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81440" y="4734000"/>
              <a:ext cx="63360" cy="680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538440" y="4452840"/>
              <a:ext cx="63720" cy="716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0"/>
                  </a:moveTo>
                  <a:lnTo>
                    <a:pt x="39" y="39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90640" y="6124680"/>
              <a:ext cx="6336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58800" y="5567400"/>
              <a:ext cx="6372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214720" y="5010120"/>
              <a:ext cx="6336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81440" y="4452840"/>
              <a:ext cx="6336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38440" y="3897360"/>
              <a:ext cx="63720" cy="69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45920" y="6076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9360" y="580068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95640" y="55213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5640" y="52434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5640" y="4964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95640" y="46864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95640" y="44067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5640" y="41306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5640" y="38498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5640" y="35719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90280" y="6264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41984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07540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4392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9768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66200" y="62643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10320" y="6508800"/>
              <a:ext cx="91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umber of </a:t>
              </a: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i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6200000">
              <a:off x="-28440" y="485712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mount, $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77400" y="5540400"/>
              <a:ext cx="325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78480" y="4965840"/>
              <a:ext cx="497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77400" y="4402080"/>
              <a:ext cx="325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78120" y="37987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90440" y="4311720"/>
              <a:ext cx="154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eak-even Po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862280" y="4533840"/>
              <a:ext cx="31104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4626000" y="3483000"/>
            <a:ext cx="4452840" cy="3344760"/>
            <a:chOff x="4626000" y="3483000"/>
            <a:chExt cx="4452840" cy="3344760"/>
          </a:xfrm>
        </p:grpSpPr>
        <p:sp>
          <p:nvSpPr>
            <p:cNvPr id="1059" name=""/>
            <p:cNvSpPr/>
            <p:nvPr/>
          </p:nvSpPr>
          <p:spPr>
            <a:xfrm>
              <a:off x="4626000" y="3483000"/>
              <a:ext cx="4452840" cy="33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99200" y="3711600"/>
              <a:ext cx="3519360" cy="2498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56360" y="621036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56360" y="59594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256360" y="57103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256360" y="54608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256360" y="521028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56360" y="496080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256360" y="47102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256360" y="446076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56360" y="42116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256360" y="396072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256360" y="371160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299200" y="621000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5886360" y="62100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6472080" y="62100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7059600" y="621000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7645320" y="62100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8231040" y="62100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8818560" y="6210000"/>
              <a:ext cx="1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08680" y="477504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34160" y="479736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777000" y="399420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16720" y="492768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00600" y="5622840"/>
              <a:ext cx="108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75240" y="479736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34" y="0"/>
                  </a:moveTo>
                  <a:lnTo>
                    <a:pt x="68" y="34"/>
                  </a:lnTo>
                  <a:lnTo>
                    <a:pt x="34" y="69"/>
                  </a:lnTo>
                  <a:lnTo>
                    <a:pt x="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62680" y="4406760"/>
              <a:ext cx="10980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35" y="0"/>
                  </a:moveTo>
                  <a:lnTo>
                    <a:pt x="69" y="34"/>
                  </a:lnTo>
                  <a:lnTo>
                    <a:pt x="35" y="68"/>
                  </a:lnTo>
                  <a:lnTo>
                    <a:pt x="0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48400" y="439596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34" y="0"/>
                  </a:moveTo>
                  <a:lnTo>
                    <a:pt x="68" y="34"/>
                  </a:lnTo>
                  <a:lnTo>
                    <a:pt x="34" y="68"/>
                  </a:lnTo>
                  <a:lnTo>
                    <a:pt x="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87080" y="560088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o Ti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00680" y="4906800"/>
              <a:ext cx="16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994080" y="475452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oog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62760" y="397188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im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17760" y="4775040"/>
              <a:ext cx="54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od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26840" y="437364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+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05920" y="4200480"/>
              <a:ext cx="26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+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353280" y="4624560"/>
              <a:ext cx="25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+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995000" y="6122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995000" y="5873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995000" y="5622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995000" y="53737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995000" y="5122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95000" y="4873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995000" y="4624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995000" y="4373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995000" y="4124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995000" y="3875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95000" y="3624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01640" y="632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87360" y="632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74880" y="632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960600" y="6329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14640" y="6329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00360" y="6329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687520" y="6329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62320" y="653580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sk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200000">
              <a:off x="4550760" y="490608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turn 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0:15:52Z</dcterms:created>
  <dc:creator>Frank</dc:creator>
  <dc:description/>
  <dc:language>en-US</dc:language>
  <cp:lastModifiedBy>frank crundwell</cp:lastModifiedBy>
  <dcterms:modified xsi:type="dcterms:W3CDTF">2007-08-16T16:56:04Z</dcterms:modified>
  <cp:revision>21</cp:revision>
  <dc:subject/>
  <dc:title>PowerPoint Presentation</dc:title>
</cp:coreProperties>
</file>